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DF83-8B58-4DEC-8BE3-9676D79D4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385-5295-42F9-9023-8BFC2F66A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C5ED-4A68-499E-92F3-31A8D928E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7D4E-A33A-4F5E-BF97-C64486D0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709CE-79AB-49B2-8CDC-3AB41F314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10DF-27C4-4F7C-9E1F-03BAEAD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7F20-B9EC-4E30-8B9C-214BE1AB6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E5D5B-2CE9-4FC5-884F-D24FE1F48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FD15B-98C9-4CB1-BE17-97853557F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4346-F890-4B2F-AEE0-C02D52FD6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023E-7570-4AB7-993F-F9374389A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E866-2480-433A-9FD8-9CA53CF29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E86A-2B77-4C45-86C0-2068335F0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4BE38-2C88-4C09-936B-030DB1992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6F3F6-4F19-4A6E-B253-C810855E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D6821-EA00-4417-8D1B-987703A2ED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B5495-1AEB-47C9-862C-C8AEDAE3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AB05-FB33-4230-AD53-DF0F23EEB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3E73-D5D5-404A-BFF2-5875F72A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1D42-AD0C-4F79-921D-265DF604C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4550-5F49-4200-B432-FDE0B8DF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8C9D-2F37-4201-8B5D-1A4EBE8F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A007-4C3C-4801-8E49-8382BCCD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8E0-AAAA-454B-A25A-63D7FA23A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E65D3-F26A-47E9-AB1D-C7CFA333B5C7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D3D3E-F96F-48E4-9E75-BE9D8C514724}" type="slidenum">
              <a:rPr b="0" lang="en-US" sz="1200" spc="-1" strike="noStrike">
                <a:solidFill>
                  <a:srgbClr val="bcbcb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-79200" y="1249200"/>
            <a:ext cx="9461160" cy="40053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Tú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128520" y="30240"/>
            <a:ext cx="9021960" cy="201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5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sp>
        <p:nvSpPr>
          <p:cNvPr id="86" name="TextBox 4"/>
          <p:cNvSpPr/>
          <p:nvPr/>
        </p:nvSpPr>
        <p:spPr>
          <a:xfrm>
            <a:off x="914400" y="1828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5"/>
          <p:cNvSpPr/>
          <p:nvPr/>
        </p:nvSpPr>
        <p:spPr>
          <a:xfrm>
            <a:off x="990720" y="3429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609480" y="49528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7"/>
          <p:cNvSpPr/>
          <p:nvPr/>
        </p:nvSpPr>
        <p:spPr>
          <a:xfrm>
            <a:off x="4572000" y="1752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(as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Box 8"/>
          <p:cNvSpPr/>
          <p:nvPr/>
        </p:nvSpPr>
        <p:spPr>
          <a:xfrm>
            <a:off x="4724280" y="3505320"/>
            <a:ext cx="64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al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4952880" y="4724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(as), Uds. Sal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761760" y="10663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Emanuel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304920" y="1905120"/>
            <a:ext cx="861048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Usted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761760" y="609480"/>
            <a:ext cx="792468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</a:t>
            </a: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/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El pasajero y yo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Nosotr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761760" y="609120"/>
            <a:ext cx="792468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Mis Padres y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7200" y="249120"/>
            <a:ext cx="8229600" cy="1482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3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  <a:tr h="147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cb084"/>
                    </a:solidFill>
                  </a:tcPr>
                </a:tc>
              </a:tr>
            </a:tbl>
          </a:graphicData>
        </a:graphic>
      </p:graphicFrame>
      <p:sp>
        <p:nvSpPr>
          <p:cNvPr id="94" name="TextBox 4"/>
          <p:cNvSpPr/>
          <p:nvPr/>
        </p:nvSpPr>
        <p:spPr>
          <a:xfrm>
            <a:off x="914400" y="18288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o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g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5"/>
          <p:cNvSpPr/>
          <p:nvPr/>
        </p:nvSpPr>
        <p:spPr>
          <a:xfrm>
            <a:off x="990720" y="3429000"/>
            <a:ext cx="320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ú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Box 6"/>
          <p:cNvSpPr/>
          <p:nvPr/>
        </p:nvSpPr>
        <p:spPr>
          <a:xfrm>
            <a:off x="609480" y="4724280"/>
            <a:ext cx="4114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Él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8320" y="175248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sotros(as)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em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Box 8"/>
          <p:cNvSpPr/>
          <p:nvPr/>
        </p:nvSpPr>
        <p:spPr>
          <a:xfrm>
            <a:off x="4724280" y="32767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osotros(as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acé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9"/>
          <p:cNvSpPr/>
          <p:nvPr/>
        </p:nvSpPr>
        <p:spPr>
          <a:xfrm>
            <a:off x="4952880" y="4724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llos(as), Uds. hac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Nosotr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m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52280" y="838080"/>
            <a:ext cx="876312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Salir / 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100000"/>
              </a:lnSpc>
              <a:spcBef>
                <a:spcPts val="25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100" spc="-1" strike="noStrike">
                <a:solidFill>
                  <a:srgbClr val="ffffff"/>
                </a:solidFill>
                <a:latin typeface="Century Gothic"/>
              </a:rPr>
              <a:t>Los asistentes del vuelo</a:t>
            </a:r>
            <a:endParaRPr b="0" lang="en-US" sz="10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Los pilot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Los piloto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761760" y="1904760"/>
            <a:ext cx="79246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r / Ustedes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Hacen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i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Sal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Trai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1760" y="1905120"/>
            <a:ext cx="79246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er / Y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205740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Century Gothic"/>
              </a:rPr>
              <a:t>Pongo</a:t>
            </a:r>
            <a:endParaRPr b="0" lang="en-US" sz="115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6T20:24:01Z</dcterms:created>
  <dc:creator>whitecadm</dc:creator>
  <dc:description/>
  <dc:language>en-US</dc:language>
  <cp:lastModifiedBy>490teacher</cp:lastModifiedBy>
  <dcterms:modified xsi:type="dcterms:W3CDTF">2012-02-09T23:57:40Z</dcterms:modified>
  <cp:revision>4</cp:revision>
  <dc:subject/>
  <dc:title>Slide 1</dc:title>
</cp:coreProperties>
</file>